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7.gif" ContentType="image/gif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8.png" ContentType="image/png"/>
  <Override PartName="/ppt/media/image15.gif" ContentType="image/gif"/>
  <Override PartName="/ppt/media/image1.png" ContentType="image/pn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AD96C-DCD6-4CDC-A333-8AFCFAE54D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코페르니쿠스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폴란드 출신의 교회 행정가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탈리아 유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1" lang="ko-KR" sz="2000" spc="-1" strike="noStrike">
                <a:solidFill>
                  <a:srgbClr val="ed7d31"/>
                </a:solidFill>
                <a:latin typeface="맑은 고딕"/>
                <a:ea typeface="맑은 고딕"/>
              </a:rPr>
              <a:t>신플라톤주의자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들과 교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황청 주도의 달력 개정 사업에 참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51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경 지구가 태양 주위를 돈다고 생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C606A-B0F6-4366-B335-BF919237A8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quant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용에 대한 불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등속 운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533D2-89C1-41A3-8355-4AD5354352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톨레마이오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ed7d31"/>
                </a:solidFill>
                <a:latin typeface="맑은 고딕"/>
                <a:ea typeface="맑은 고딕"/>
              </a:rPr>
              <a:t>주전원이라는 별도의 가정 도입 필요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코페르니쿠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ed7d31"/>
                </a:solidFill>
                <a:latin typeface="맑은 고딕"/>
                <a:ea typeface="맑은 고딕"/>
              </a:rPr>
              <a:t>우주구조 자체로 설명 </a:t>
            </a:r>
            <a:r>
              <a:rPr b="0" lang="ko-KR" sz="1200" spc="-1" strike="noStrike">
                <a:solidFill>
                  <a:srgbClr val="ed7d31"/>
                </a:solidFill>
                <a:latin typeface="Wingdings"/>
                <a:ea typeface="Wingdings"/>
              </a:rPr>
              <a:t></a:t>
            </a:r>
            <a:r>
              <a:rPr b="0" lang="ko-KR" sz="1200" spc="-1" strike="noStrike">
                <a:solidFill>
                  <a:srgbClr val="ed7d31"/>
                </a:solidFill>
                <a:latin typeface="맑은 고딕"/>
                <a:ea typeface="맑은 고딕"/>
              </a:rPr>
              <a:t> 실제가 아니라 겉보기 운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137B7-BF39-438C-8186-12A77F4CCA5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성과 금성의 경우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태양과 함께 몰려 다니는 현상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톨레마이오스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‘</a:t>
            </a:r>
            <a:r>
              <a:rPr b="1" lang="ko-KR" sz="2200" spc="-1" strike="noStrike">
                <a:solidFill>
                  <a:srgbClr val="ed7d31"/>
                </a:solidFill>
                <a:latin typeface="맑은 고딕"/>
                <a:ea typeface="맑은 고딕"/>
              </a:rPr>
              <a:t>주전원 가정’과 또 다른 ‘별도의 가정’ 필요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코페르니쿠스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‘</a:t>
            </a:r>
            <a:r>
              <a:rPr b="1" lang="ko-KR" sz="2200" spc="-1" strike="noStrike">
                <a:solidFill>
                  <a:srgbClr val="ed7d31"/>
                </a:solidFill>
                <a:latin typeface="맑은 고딕"/>
                <a:ea typeface="맑은 고딕"/>
              </a:rPr>
              <a:t>우주 구조 자체’에서 비롯되는 겉보기 운동 현상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EEBFD-A78E-4BFE-A583-CB4DCE6FDF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872AA-76C7-443F-BE5E-FAF69849015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체의 등속 원운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성적 추론의 산물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영원하며 초월적이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완벽한 순수 형상의 세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운동을 하지만 본질적으로 변하지 않아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합한 운동은 오직 등속 원운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후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00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간 천문학의 패러다임 이룸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C1AC0-1EA3-4E36-90BA-86985115285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277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01A92-289B-4466-9DEC-747B1CC2CA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7D545-3312-4D3B-9743-24A660AE0DA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3B0CA-5018-4BA9-9494-A593D76F9ED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598F6-C57A-469C-A8CD-144974B9CCB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리스토텔레스의 자연철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우주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운동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질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잘 부합하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F50E8-3AB2-4978-BAEA-7BDA6967150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82C2E-9A29-42FA-819D-CE82583E3D1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811C-D5C4-487F-99CF-DF523FA0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119-8F3E-4CDF-B0FB-1FD967CA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1AB-3FF6-41CC-B437-1C088A3B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8C6-876E-4441-B872-8B13D70F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4C19-A299-4D47-9F8E-71CC1778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BD8F-711F-45B0-B914-95A60D4F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D8DD-C4A3-4B90-95FA-41C1DA32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E850-46A9-4C42-BCA9-A65A09B6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2B19-1F8C-451B-9926-F79FB9FE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FD2F-0722-4E3E-8E2D-BBA2E541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03A5-1C71-460D-A1C7-4E85CE20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E50-E071-4344-8F4F-9420FAB9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E203-CAA1-44F0-9528-27C2240E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7508-A2B1-470F-A4EF-C8749988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BF75-6881-4D1B-B348-B7FD827E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7FDA-9234-4019-994D-E743492E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1F82-C923-44F6-AC21-DE5B86E6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EB91D-D496-44FE-8468-874A1432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C0F87-F7AD-43DE-8987-AC0A6872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44954-B856-40D6-BB75-8B142543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17920-1337-4D72-8849-F013A839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05765-3BBF-4148-A590-3FC2E325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DCB5-116D-456A-BFDA-D7768D69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7C6E7-FC75-4927-AA7C-F59D5F79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DDAA5-FFF3-40C5-8D75-2E53D9FA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92C5F-D4E1-4C72-9D87-3726ABCF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CEA77-195C-460F-8C5F-D560329D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86877-2745-4DAB-9A77-3366D7D9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021F4-0D47-451B-96CA-58B08D64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516F1-5864-43E2-B468-B0896049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02B24-934C-46B3-88A3-2D6C21C9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7AB74-B366-47AD-ADD7-92577AF9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CBCC3-F5FA-4BBE-852F-32D7B7B3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7DB-EB8F-4C36-81CF-573B8190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9FA0D-9F34-4D9A-9D71-5107A419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BDF11-2D92-4F2A-B395-E850108E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BC4CE-8523-4B08-BC0D-D0922723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02485-C968-47B7-9E7A-75F152BA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D890D-CBEF-4F66-A457-ED3B228A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1611D-2F27-4D69-AEFC-AA4D0613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ABD6C-6E62-4C4D-B564-3EC7AE13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F5B49-032F-4B20-81A8-31D1AEBF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99CC9-6B46-4DD5-80A5-FE40E903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1A7-CFBE-4262-AA93-73C82DB3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677-E31A-41A6-9FEA-B299335F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5E4-CC63-47DF-94EC-F06921C2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DDA-2715-4732-B2B5-409970A3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EF5-86D0-4903-A5F5-9A64A0E2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0" spc="-1" strike="noStrike">
                <a:solidFill>
                  <a:srgbClr val="50b4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E3454-5058-47FF-8127-9AC1EECC8F41}" type="slidenum">
              <a:rPr b="0" lang="en-US" sz="9000" spc="-1" strike="noStrike">
                <a:solidFill>
                  <a:srgbClr val="50b4c8"/>
                </a:solidFill>
                <a:latin typeface="Times New Roman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86CAE-5AAA-4DD0-9A07-2B70EEC6F485}" type="slidenum">
              <a:rPr b="0" lang="en-US" sz="9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39181-43D9-4751-A95A-6670661BC3D3}" type="slidenum">
              <a:rPr b="0" lang="en-US" sz="9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D41E1-B1CA-41AA-B842-A11C80AD79F2}" type="slidenum">
              <a:rPr b="0" lang="en-US" sz="9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7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591120" y="390600"/>
            <a:ext cx="190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에피소드 과학철학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2015</a:t>
            </a: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년 </a:t>
            </a:r>
            <a:r>
              <a:rPr b="0" lang="en-US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3</a:t>
            </a: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월 </a:t>
            </a:r>
            <a:r>
              <a:rPr b="0" lang="en-US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17</a:t>
            </a: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일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800" spc="-1" strike="noStrike">
                <a:solidFill>
                  <a:srgbClr val="dcf0f4"/>
                </a:solidFill>
                <a:latin typeface="Calibri Light"/>
                <a:ea typeface="맑은 고딕"/>
              </a:rPr>
              <a:t>정동욱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9680" y="2525400"/>
            <a:ext cx="8086680" cy="235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코페르니쿠스와 </a:t>
            </a:r>
            <a:br>
              <a:rPr sz="7200"/>
            </a:br>
            <a:r>
              <a:rPr b="0" lang="ko-KR" sz="7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천문학 혁명</a:t>
            </a:r>
            <a:endParaRPr b="0" lang="en-US" sz="72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1960" y="5670360"/>
            <a:ext cx="69231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7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과학적 창의성의 비밀</a:t>
            </a:r>
            <a:endParaRPr b="0" lang="en-US" sz="37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코페르니쿠스의 </a:t>
            </a:r>
            <a:r>
              <a:rPr b="0" lang="en-US" sz="25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《</a:t>
            </a:r>
            <a:r>
              <a:rPr b="0" lang="ko-KR" sz="25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천구의 회전에 관하여</a:t>
            </a:r>
            <a:r>
              <a:rPr b="0" lang="en-US" sz="25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》 </a:t>
            </a:r>
            <a:r>
              <a:rPr b="0" lang="en-US" sz="25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(1543)</a:t>
            </a:r>
            <a:endParaRPr b="0" lang="en-US" sz="25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6053040"/>
            <a:ext cx="824400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지구의 운동을 제외하면 전문적인 수리 행성 천문학 서적</a:t>
            </a:r>
            <a:endParaRPr b="0" lang="en-US" sz="16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211" name="Picture 6" descr="Copernicus"/>
          <p:cNvPicPr/>
          <p:nvPr/>
        </p:nvPicPr>
        <p:blipFill>
          <a:blip r:embed="rId2"/>
          <a:stretch/>
        </p:blipFill>
        <p:spPr>
          <a:xfrm>
            <a:off x="1106640" y="187200"/>
            <a:ext cx="3528720" cy="4975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copernicus1-1"/>
          <p:cNvPicPr/>
          <p:nvPr/>
        </p:nvPicPr>
        <p:blipFill>
          <a:blip r:embed="rId3"/>
          <a:stretch/>
        </p:blipFill>
        <p:spPr>
          <a:xfrm>
            <a:off x="4925880" y="169920"/>
            <a:ext cx="29498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0" y="1893960"/>
            <a:ext cx="9144000" cy="4964040"/>
          </a:xfrm>
          <a:prstGeom prst="rect">
            <a:avLst/>
          </a:prstGeom>
          <a:solidFill>
            <a:srgbClr val="50b4c8"/>
          </a:solidFill>
          <a:ln w="12600">
            <a:solidFill>
              <a:srgbClr val="50b4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“</a:t>
            </a:r>
            <a:r>
              <a:rPr b="0" lang="ko-KR" sz="44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프톨레마이오스의 체계는 괴물</a:t>
            </a:r>
            <a:r>
              <a:rPr b="0" lang="en-US" sz="44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”</a:t>
            </a:r>
            <a:endParaRPr b="0" lang="en-US" sz="4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06520" y="2395440"/>
            <a:ext cx="806616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2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이질적 원리 조합 </a:t>
            </a:r>
            <a:r>
              <a:rPr b="0" lang="en-US" sz="2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– </a:t>
            </a:r>
            <a:r>
              <a:rPr b="0" lang="ko-KR" sz="2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우주의 조화와 대칭성 훼손</a:t>
            </a:r>
            <a:endParaRPr b="0" lang="en-US" sz="2600" spc="-1" strike="noStrike">
              <a:solidFill>
                <a:srgbClr val="262626"/>
              </a:solidFill>
              <a:latin typeface="Calibri Light"/>
            </a:endParaRPr>
          </a:p>
          <a:p>
            <a:pPr lvl="1" marL="442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태양을 중심에 두면 조화롭고 간단한 체계 가능</a:t>
            </a:r>
            <a:endParaRPr b="0" lang="en-US" sz="2600" spc="-1" strike="noStrike">
              <a:solidFill>
                <a:srgbClr val="262626"/>
              </a:solidFill>
              <a:latin typeface="Calibri Light"/>
            </a:endParaRPr>
          </a:p>
          <a:p>
            <a:pPr lvl="1" marL="442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alibri Light"/>
            </a:endParaRPr>
          </a:p>
          <a:p>
            <a:pPr lvl="1" marL="442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태양중심설을 이미 주장했었던 고대의 학자들 인용</a:t>
            </a:r>
            <a:endParaRPr b="0" lang="en-US" sz="26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행성의 역행 운동</a:t>
            </a:r>
            <a:endParaRPr b="0" lang="en-US" sz="36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19" name="Picture 4" descr="retrograde"/>
          <p:cNvPicPr/>
          <p:nvPr/>
        </p:nvPicPr>
        <p:blipFill>
          <a:blip r:embed="rId2"/>
          <a:stretch/>
        </p:blipFill>
        <p:spPr>
          <a:xfrm>
            <a:off x="5421240" y="993600"/>
            <a:ext cx="2710080" cy="4197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epicycle2"/>
          <p:cNvPicPr/>
          <p:nvPr/>
        </p:nvPicPr>
        <p:blipFill>
          <a:blip r:embed="rId3"/>
          <a:stretch/>
        </p:blipFill>
        <p:spPr>
          <a:xfrm>
            <a:off x="766800" y="566640"/>
            <a:ext cx="4078080" cy="4535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ptolemy"/>
          <p:cNvPicPr/>
          <p:nvPr/>
        </p:nvPicPr>
        <p:blipFill>
          <a:blip r:embed="rId4"/>
          <a:stretch/>
        </p:blipFill>
        <p:spPr>
          <a:xfrm>
            <a:off x="1301760" y="819000"/>
            <a:ext cx="3144960" cy="4194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Copernicus_Mars"/>
          <p:cNvPicPr/>
          <p:nvPr/>
        </p:nvPicPr>
        <p:blipFill>
          <a:blip r:embed="rId5"/>
          <a:stretch/>
        </p:blipFill>
        <p:spPr>
          <a:xfrm>
            <a:off x="4932360" y="819000"/>
            <a:ext cx="314172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내행성의 최대이각</a:t>
            </a:r>
            <a:endParaRPr b="0" lang="en-US" sz="36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26" name="Picture 5" descr="maximum"/>
          <p:cNvPicPr/>
          <p:nvPr/>
        </p:nvPicPr>
        <p:blipFill>
          <a:blip r:embed="rId2"/>
          <a:stretch/>
        </p:blipFill>
        <p:spPr>
          <a:xfrm>
            <a:off x="0" y="847800"/>
            <a:ext cx="9144000" cy="42130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6"/>
          <p:cNvSpPr/>
          <p:nvPr/>
        </p:nvSpPr>
        <p:spPr>
          <a:xfrm>
            <a:off x="1368360" y="847800"/>
            <a:ext cx="18954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프톨레마이오스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6502320" y="847800"/>
            <a:ext cx="16542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코페르니쿠스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직선 연결선 7"/>
          <p:cNvSpPr/>
          <p:nvPr/>
        </p:nvSpPr>
        <p:spPr>
          <a:xfrm flipH="1">
            <a:off x="479160" y="2971800"/>
            <a:ext cx="130644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행성 궤도의 크기와 순서의 확정</a:t>
            </a:r>
            <a:endParaRPr b="0" lang="en-US" sz="32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33" name="Picture 4" descr="Copernicus distance"/>
          <p:cNvPicPr/>
          <p:nvPr/>
        </p:nvPicPr>
        <p:blipFill>
          <a:blip r:embed="rId2"/>
          <a:stretch/>
        </p:blipFill>
        <p:spPr>
          <a:xfrm>
            <a:off x="66600" y="217440"/>
            <a:ext cx="897912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직사각형 10"/>
          <p:cNvSpPr/>
          <p:nvPr/>
        </p:nvSpPr>
        <p:spPr>
          <a:xfrm>
            <a:off x="0" y="0"/>
            <a:ext cx="5715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95600" y="542520"/>
            <a:ext cx="253692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단순성과 조화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71680" y="76212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07120" y="2511000"/>
            <a:ext cx="254952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이미 알고 있었던 것에 대한 새로운 설명들</a:t>
            </a:r>
            <a:endParaRPr b="0" lang="en-US" sz="15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238" name="Picture 2" descr="http://zebu.uoregon.edu/~soper/Orbits/marsorbit.gif"/>
          <p:cNvPicPr/>
          <p:nvPr/>
        </p:nvPicPr>
        <p:blipFill>
          <a:blip r:embed="rId1"/>
          <a:stretch/>
        </p:blipFill>
        <p:spPr>
          <a:xfrm>
            <a:off x="0" y="16765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수정체 천구에 대한 믿음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Scan0001"/>
          <p:cNvPicPr/>
          <p:nvPr/>
        </p:nvPicPr>
        <p:blipFill>
          <a:blip r:embed="rId2"/>
          <a:stretch/>
        </p:blipFill>
        <p:spPr>
          <a:xfrm>
            <a:off x="957240" y="326880"/>
            <a:ext cx="698976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2"/>
          <p:cNvSpPr/>
          <p:nvPr/>
        </p:nvSpPr>
        <p:spPr>
          <a:xfrm>
            <a:off x="0" y="0"/>
            <a:ext cx="570384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95600" y="542520"/>
            <a:ext cx="253692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여전히 복잡한 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코페르니쿠스 체계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680" y="76212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07120" y="2511000"/>
            <a:ext cx="254952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여전히 행성의 운동은 원운동의 합성</a:t>
            </a:r>
            <a:r>
              <a:rPr b="0" lang="en-US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. </a:t>
            </a:r>
            <a:r>
              <a:rPr b="0" lang="ko-KR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프톨레마이오스 체계보다 큰 정확도 향상 없음</a:t>
            </a:r>
            <a:endParaRPr b="0" lang="en-US" sz="1500" spc="-1" strike="noStrike">
              <a:solidFill>
                <a:srgbClr val="262626"/>
              </a:solidFill>
              <a:latin typeface="Calibri Light"/>
            </a:endParaRPr>
          </a:p>
          <a:p>
            <a:pPr marL="44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247" name="Picture 4" descr="cop-sys-bb"/>
          <p:cNvPicPr/>
          <p:nvPr/>
        </p:nvPicPr>
        <p:blipFill>
          <a:blip r:embed="rId1"/>
          <a:stretch/>
        </p:blipFill>
        <p:spPr>
          <a:xfrm>
            <a:off x="114480" y="838080"/>
            <a:ext cx="5475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0" y="1938240"/>
            <a:ext cx="9144000" cy="4919760"/>
          </a:xfrm>
          <a:prstGeom prst="rect">
            <a:avLst/>
          </a:prstGeom>
          <a:solidFill>
            <a:srgbClr val="50b4c8"/>
          </a:solidFill>
          <a:ln w="12600">
            <a:solidFill>
              <a:srgbClr val="3883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당대의 반응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6520" y="2503440"/>
            <a:ext cx="806616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“</a:t>
            </a:r>
            <a:r>
              <a:rPr b="0" lang="ko-KR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지구가</a:t>
            </a: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돈다니 말도 안됨</a:t>
            </a: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”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“</a:t>
            </a:r>
            <a:r>
              <a:rPr b="0" lang="ko-KR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제</a:t>
            </a: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의 프톨레마이오스</a:t>
            </a: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”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“</a:t>
            </a:r>
            <a:r>
              <a:rPr b="0" lang="ko-KR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지구가 도는 것처럼 가정하면 계산이 편리하긴 함</a:t>
            </a: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”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95600" y="542520"/>
            <a:ext cx="253692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연주시차의 관측 실패</a:t>
            </a:r>
            <a:endParaRPr b="0" lang="en-US" sz="32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71680" y="76212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07120" y="2742840"/>
            <a:ext cx="2549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태양중심설에 대한 반증</a:t>
            </a:r>
            <a:r>
              <a:rPr b="0" lang="en-US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?</a:t>
            </a:r>
            <a:endParaRPr b="0" lang="en-US" sz="1500" spc="-1" strike="noStrike">
              <a:solidFill>
                <a:srgbClr val="262626"/>
              </a:solidFill>
              <a:latin typeface="Calibri Light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광활한 우주</a:t>
            </a:r>
            <a:r>
              <a:rPr b="0" lang="en-US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?</a:t>
            </a:r>
            <a:endParaRPr b="0" lang="en-US" sz="15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254" name="Picture 2" descr="http://www.astro.lu.se/~anna/teaching/parallax/parallax.JPG"/>
          <p:cNvPicPr/>
          <p:nvPr/>
        </p:nvPicPr>
        <p:blipFill>
          <a:blip r:embed="rId1"/>
          <a:stretch/>
        </p:blipFill>
        <p:spPr>
          <a:xfrm>
            <a:off x="318960" y="479520"/>
            <a:ext cx="5243760" cy="56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95600" y="542520"/>
            <a:ext cx="253692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고대의 우주론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680" y="76212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07120" y="2511000"/>
            <a:ext cx="254952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영원한 등속 원운동</a:t>
            </a:r>
            <a:endParaRPr b="0" lang="en-US" sz="15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180" name="Picture 3" descr="플라톤 천구"/>
          <p:cNvPicPr/>
          <p:nvPr/>
        </p:nvPicPr>
        <p:blipFill>
          <a:blip r:embed="rId1"/>
          <a:stretch/>
        </p:blipFill>
        <p:spPr>
          <a:xfrm>
            <a:off x="576360" y="1031760"/>
            <a:ext cx="453528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티코의 절충적 지구 중심 체계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58" name="Picture 4" descr="tycho"/>
          <p:cNvPicPr/>
          <p:nvPr/>
        </p:nvPicPr>
        <p:blipFill>
          <a:blip r:embed="rId2"/>
          <a:stretch/>
        </p:blipFill>
        <p:spPr>
          <a:xfrm>
            <a:off x="304920" y="243000"/>
            <a:ext cx="3384360" cy="4736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Scan0044"/>
          <p:cNvPicPr/>
          <p:nvPr/>
        </p:nvPicPr>
        <p:blipFill>
          <a:blip r:embed="rId3"/>
          <a:srcRect l="0" t="3571" r="2532" b="5952"/>
          <a:stretch/>
        </p:blipFill>
        <p:spPr>
          <a:xfrm>
            <a:off x="3951360" y="243000"/>
            <a:ext cx="48052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티코 체계에 대한 당대의 반응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63" name="Picture 4" descr="almagestum_novum_detail"/>
          <p:cNvPicPr/>
          <p:nvPr/>
        </p:nvPicPr>
        <p:blipFill>
          <a:blip r:embed="rId2"/>
          <a:stretch/>
        </p:blipFill>
        <p:spPr>
          <a:xfrm>
            <a:off x="755640" y="227160"/>
            <a:ext cx="3133800" cy="4995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4l2138d"/>
          <p:cNvPicPr/>
          <p:nvPr/>
        </p:nvPicPr>
        <p:blipFill>
          <a:blip r:embed="rId3"/>
          <a:stretch/>
        </p:blipFill>
        <p:spPr>
          <a:xfrm>
            <a:off x="4218120" y="155520"/>
            <a:ext cx="42368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케플러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정확성을 위해서는 원을 버려야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!</a:t>
            </a:r>
            <a:endParaRPr b="0" lang="en-US" sz="32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68" name="Picture 4" descr="keplerlaw"/>
          <p:cNvPicPr/>
          <p:nvPr/>
        </p:nvPicPr>
        <p:blipFill>
          <a:blip r:embed="rId2"/>
          <a:srcRect l="4787" t="2268" r="12724" b="2457"/>
          <a:stretch/>
        </p:blipFill>
        <p:spPr>
          <a:xfrm>
            <a:off x="3708360" y="1073160"/>
            <a:ext cx="4861080" cy="3745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epler"/>
          <p:cNvPicPr/>
          <p:nvPr/>
        </p:nvPicPr>
        <p:blipFill>
          <a:blip r:embed="rId3"/>
          <a:stretch/>
        </p:blipFill>
        <p:spPr>
          <a:xfrm>
            <a:off x="546120" y="1073160"/>
            <a:ext cx="29908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50b4c8"/>
                </a:solidFill>
                <a:latin typeface="Calibri Light"/>
                <a:ea typeface="맑은 고딕"/>
              </a:rPr>
              <a:t>질문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262626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일시적인 불일치로 보이던 것을 피할 수 없는 충돌로 변화시킨 것은 무엇일까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?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262626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코페르니쿠스가 가졌던 보수적인 생각과 혁신적인 생각을 구분해보자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262626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코페르니쿠스가 쓰고 있던 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‘</a:t>
            </a: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눈가리개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’</a:t>
            </a: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란 무엇이며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그것은 천문학의 혁명에 어떤 역할을 했을까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?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262626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태양중심설을 주장했던 과거의 다른 학자들과 코페르니쿠스 사이의 차이점은 무엇인가</a:t>
            </a:r>
            <a:r>
              <a:rPr b="0" lang="en-US" sz="24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?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262626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95600" y="542520"/>
            <a:ext cx="253692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상세한 우주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07120" y="2511000"/>
            <a:ext cx="254952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500" spc="-1" strike="noStrike">
              <a:solidFill>
                <a:srgbClr val="404040"/>
              </a:solidFill>
              <a:latin typeface="Calibri Light"/>
              <a:ea typeface="맑은 고딕"/>
            </a:endParaRPr>
          </a:p>
        </p:txBody>
      </p:sp>
      <p:pic>
        <p:nvPicPr>
          <p:cNvPr id="183" name="Picture 2" descr="http://abyss.uoregon.edu/~js/images/aristotelian_cosmo.gif"/>
          <p:cNvPicPr/>
          <p:nvPr/>
        </p:nvPicPr>
        <p:blipFill>
          <a:blip r:embed="rId1"/>
          <a:stretch/>
        </p:blipFill>
        <p:spPr>
          <a:xfrm>
            <a:off x="324000" y="762120"/>
            <a:ext cx="51163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우주의 골칫거리 행성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떠돌이별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)</a:t>
            </a:r>
            <a:endParaRPr b="0" lang="en-US" sz="32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185" name="Picture 2" descr="http://phyux2.ks.ac.kr/ymp/data/others/universe_of_man/universe/cel-sphere/mars_ret.gif"/>
          <p:cNvPicPr/>
          <p:nvPr/>
        </p:nvPicPr>
        <p:blipFill>
          <a:blip r:embed="rId1"/>
          <a:srcRect l="0" t="3667" r="0" b="3667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토성의 운동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189" name="Picture 10" descr="3_years_of_saturn"/>
          <p:cNvPicPr/>
          <p:nvPr/>
        </p:nvPicPr>
        <p:blipFill>
          <a:blip r:embed="rId1"/>
          <a:srcRect l="0" t="1877" r="0" b="1877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95600" y="542520"/>
            <a:ext cx="253692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프톨레마이오스의 수리 행성 천문학</a:t>
            </a:r>
            <a:endParaRPr b="0" lang="en-US" sz="2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76212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262626"/>
                </a:solidFill>
                <a:latin typeface="Calibri Light"/>
                <a:ea typeface="맑은 고딕"/>
              </a:rPr>
              <a:t>행성의 복잡한 운동을 원운동의 합성으로 설명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07120" y="2511000"/>
            <a:ext cx="254952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복잡한 행성의 운동을 원운동의 합성으로 설명</a:t>
            </a:r>
            <a:endParaRPr b="0" lang="en-US" sz="15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193" name="Picture 2" descr="http://upload.wikimedia.org/wikipedia/commons/0/0b/PSM_V78_D326_Ptolemy.png"/>
          <p:cNvPicPr/>
          <p:nvPr/>
        </p:nvPicPr>
        <p:blipFill>
          <a:blip r:embed="rId1"/>
          <a:stretch/>
        </p:blipFill>
        <p:spPr>
          <a:xfrm>
            <a:off x="0" y="0"/>
            <a:ext cx="574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직사각형 3"/>
          <p:cNvSpPr/>
          <p:nvPr/>
        </p:nvSpPr>
        <p:spPr>
          <a:xfrm>
            <a:off x="0" y="0"/>
            <a:ext cx="5726160" cy="7140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95600" y="542520"/>
            <a:ext cx="253692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주전원</a:t>
            </a:r>
            <a:r>
              <a:rPr b="0" lang="en-US" sz="36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(epicycle)</a:t>
            </a:r>
            <a:endParaRPr b="0" lang="en-US" sz="36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07120" y="2511000"/>
            <a:ext cx="254952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행성의 역행운동과 </a:t>
            </a:r>
            <a:br>
              <a:rPr sz="1500"/>
            </a:br>
            <a:r>
              <a:rPr b="0" lang="ko-KR" sz="15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밝기 변화에 대한 설명</a:t>
            </a:r>
            <a:endParaRPr b="0" lang="en-US" sz="15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197" name="Picture 6" descr="ptolemy"/>
          <p:cNvPicPr/>
          <p:nvPr/>
        </p:nvPicPr>
        <p:blipFill>
          <a:blip r:embed="rId1"/>
          <a:stretch/>
        </p:blipFill>
        <p:spPr>
          <a:xfrm>
            <a:off x="696960" y="515880"/>
            <a:ext cx="43657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epicycle (</a:t>
            </a: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질적 설명</a:t>
            </a: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) + eccentric &amp; equant (</a:t>
            </a:r>
            <a:r>
              <a:rPr b="0" lang="ko-KR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미세 조정</a:t>
            </a:r>
            <a:r>
              <a:rPr b="0" lang="en-US" sz="28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)</a:t>
            </a:r>
            <a:endParaRPr b="0" lang="en-US" sz="28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01" name="Picture 2" descr="http://www.myastrologybook.com/epicycle.gif"/>
          <p:cNvPicPr/>
          <p:nvPr/>
        </p:nvPicPr>
        <p:blipFill>
          <a:blip r:embed="rId2"/>
          <a:stretch/>
        </p:blipFill>
        <p:spPr>
          <a:xfrm>
            <a:off x="849240" y="457200"/>
            <a:ext cx="635652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7080" y="5417640"/>
            <a:ext cx="808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Calibri Light"/>
                <a:ea typeface="맑은 고딕"/>
              </a:rPr>
              <a:t>프톨레마이오스의 복잡한 우주 체계</a:t>
            </a:r>
            <a:endParaRPr b="0" lang="en-US" sz="30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7600" y="5910120"/>
            <a:ext cx="692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262626"/>
              </a:solidFill>
              <a:latin typeface="Calibri Light"/>
              <a:ea typeface="맑은 고딕"/>
            </a:endParaRPr>
          </a:p>
        </p:txBody>
      </p:sp>
      <p:pic>
        <p:nvPicPr>
          <p:cNvPr id="205" name="Picture 4" descr="프톨레마이오스 우주모형"/>
          <p:cNvPicPr/>
          <p:nvPr/>
        </p:nvPicPr>
        <p:blipFill>
          <a:blip r:embed="rId2"/>
          <a:srcRect l="0" t="0" r="0" b="21991"/>
          <a:stretch/>
        </p:blipFill>
        <p:spPr>
          <a:xfrm>
            <a:off x="0" y="603360"/>
            <a:ext cx="4643280" cy="43909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7" name="_x113946544" descr="EMB00001f382367"/>
          <p:cNvPicPr/>
          <p:nvPr/>
        </p:nvPicPr>
        <p:blipFill>
          <a:blip r:embed="rId3"/>
          <a:stretch/>
        </p:blipFill>
        <p:spPr>
          <a:xfrm>
            <a:off x="4824360" y="603360"/>
            <a:ext cx="431964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8T01:35:57Z</dcterms:created>
  <dc:creator>정동욱</dc:creator>
  <dc:description/>
  <dc:language>en-US</dc:language>
  <cp:lastModifiedBy>DongWook Jung</cp:lastModifiedBy>
  <dcterms:modified xsi:type="dcterms:W3CDTF">2015-03-16T10:18:28Z</dcterms:modified>
  <cp:revision>41</cp:revision>
  <dc:subject/>
  <dc:title>아리스토텔레스의 과학적 우주론</dc:title>
</cp:coreProperties>
</file>